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33CD-34D1-4B44-93BE-E0532800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CC4B-53AC-446C-B3A0-2C0B7932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2490-0FAC-4CBB-AB1D-E3C354F1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F756-4D57-47CF-BBBD-050EE0A1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6CCD-C40D-407F-80D5-A378D8DE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FC01-683A-4793-8788-FF59AE66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A5A6-F62F-4571-A482-EAB62105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3F7B-1E76-4319-91E5-CD3AAEAF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17CC-E362-4084-91D3-8EEA865B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A7FD-CE3C-4A38-95B4-1C1E08BA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B041-1A48-4C55-B0ED-7F74F007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6E1-9B84-4F41-AE90-74C432F7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9954-5B05-4D61-8B85-66435354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8EB7-4F3D-4AA2-A06D-D902C1F8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659B-E3B5-436A-8610-7C3CCB16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07E5-11AC-4702-BF6A-8723B630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765C-7A62-49D2-A4A7-FF169B3C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032A-87C9-4D65-B6E5-1DEF43B0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E6E8-D087-4F41-8D88-2057E6AB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A1DC-CE53-4618-B398-D0CE8988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9538-3328-4751-B4A3-1FCBE3BC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6002-11FA-4B85-A2BF-3998303E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72D7-F9F1-4B78-B30E-FAE153A4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9A8-6385-4EFE-B949-3636FDA6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9C35-3CBC-4AE3-BA8A-A43BFE27585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983B-3212-435A-BF67-39DA4E12523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9640" y="404640"/>
            <a:ext cx="7848720" cy="81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ffffff"/>
                </a:solidFill>
                <a:uFillTx/>
                <a:latin typeface="Times New Roman"/>
              </a:rPr>
              <a:t>JARYAS O CANCIONES DE MUJERES DE TIPO TRADI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nciones de requerimiento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nciones de confidente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Si os vais, ¡oh señor!,                                “¿Qué haré yo, mam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ntes quiero besaros la boca roja,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mi amigo ya se va;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Bermeja como la cúrcuma”.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yo le quiero quieto.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¡Si tanto no le amase!”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Mi señor Ibrahim,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“¡Mamá, qué amigo!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¡oh dulce nombre!,                                     bajo la guedejilla rubit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vente a mí de noche.                                  el cuello al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Si no quieres,                                              y la boca coloradita”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Ireme a ti,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dime a dond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 verte”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No te amaré                                            “Decidme ¡oh gentes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sino es con la condición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¿qué os parec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que unas mis ajorcas</a:t>
            </a: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                       ¡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Por Dios! Como mi señor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con mis pendientes”.                                su medicina no me da”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3120" y="70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84200" y="131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3120" y="209520"/>
            <a:ext cx="822960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nciones de requerimiento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nciones de confidente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miguito, decídete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“¡Dime antes que te mat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ven a tomarme,                                        ¡Quién soltó tus zaragüell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bésame la boca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No fue el amigo nuevo, madr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priétame los pechos;                              fue el antiguo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junta ajorca y pendiente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mi marido está ocupado”.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nciones de queja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Al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De improviso, besó mi boca,                       “Ven, hechicer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Se lo diré a mi madre”.                                   alba que está con tan bello fulgo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cuando viene pide amor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¡Por Dios!, me desahogué gritando,             “No dormiré, mamá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me ha roto mi pecho,                                      al rayar el alb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me ha herido mis labios                                  viene Abul_Qas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y me ha deshecho el collar!”                           con faz de aurora”.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42920" y="836640"/>
            <a:ext cx="6778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nciones de aus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                      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¿Qué haré o que será de mi amigo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¡No te vayas de mí!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Dime cómo llorar esta ause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¡No tanto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¡Ay de los ojos de la enamor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si no estás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!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Mi amigo se retra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¿Quién ocultó la lun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para que se perdi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y errase el camino?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22:20:02Z</dcterms:created>
  <dc:creator> </dc:creator>
  <dc:description/>
  <dc:language>en-US</dc:language>
  <cp:lastModifiedBy> </cp:lastModifiedBy>
  <dcterms:modified xsi:type="dcterms:W3CDTF">2007-10-03T23:01:01Z</dcterms:modified>
  <cp:revision>4</cp:revision>
  <dc:subject/>
  <dc:title>Diapositiva 1</dc:title>
</cp:coreProperties>
</file>